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type.wav" ContentType="audio/x-wav"/>
  <Override PartName="/ppt/media/laser.wav" ContentType="audio/x-wav"/>
  <Override PartName="/ppt/media/image8.gif" ContentType="image/gif"/>
  <Override PartName="/ppt/media/image7.gif" ContentType="image/gif"/>
  <Override PartName="/ppt/media/image5.jpeg" ContentType="image/jpeg"/>
  <Override PartName="/ppt/media/image10.jpeg" ContentType="image/jpeg"/>
  <Override PartName="/ppt/media/chimes.wav" ContentType="audio/x-wav"/>
  <Override PartName="/ppt/media/image6.jpeg" ContentType="image/jpeg"/>
  <Override PartName="/ppt/media/image16.gif" ContentType="image/gif"/>
  <Override PartName="/ppt/media/image14.jpeg" ContentType="image/jpeg"/>
  <Override PartName="/ppt/media/image2.png" ContentType="image/png"/>
  <Override PartName="/ppt/media/image15.gif" ContentType="image/gif"/>
  <Override PartName="/ppt/media/image13.jpeg" ContentType="image/jpeg"/>
  <Override PartName="/ppt/media/camera.wav" ContentType="audio/x-wav"/>
  <Override PartName="/ppt/media/image12.jpeg" ContentType="image/jpeg"/>
  <Override PartName="/ppt/media/cashreg.wav" ContentType="audio/x-wav"/>
  <Override PartName="/ppt/media/projctor.wav" ContentType="audio/x-wav"/>
  <Override PartName="/ppt/media/image9.jpeg" ContentType="image/jpeg"/>
  <Override PartName="/ppt/media/image11.jpeg" ContentType="image/jpeg"/>
  <Override PartName="/ppt/media/image3.png" ContentType="image/png"/>
  <Override PartName="/ppt/media/image4.gif" ContentType="image/gif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893C-DC98-4EDF-A749-BD90EF61E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9E20-24E5-4476-BFE7-7AB61448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0474-2A09-4578-8D15-3FC3F760E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11BA-9FA8-4678-9D70-302AA904C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CCBF-F8E3-419B-811B-5F849A4B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4239-9FBD-40A3-B8CB-FA3D6083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9114-13ED-41FA-AB34-926A713A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453E-40BF-46E8-8F58-A3278996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44F4-7E9F-405C-88EA-B2FE9AB0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DD68-6FA0-49DA-9DB3-2B7679A6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CC59-E3B1-4027-A9A9-D3259A91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D33D-0BAB-4E02-8B24-9A13D918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33EE-51D8-4460-B735-21D433C2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F176-8600-445F-89E9-D2561BDF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B527-E627-4F97-9F8B-87C75408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2776-86E3-473D-B6F2-5C33C89AF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E5A4-8103-4D2F-8DAA-1EBD7DE86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F1E3-BE3B-4B3F-859B-7148BFC1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07D3-1F40-442E-8FB0-59AD9184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B554-5266-41F8-AB03-2F59AEF8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C662-3129-4462-B2F5-C2F43C0C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4CF0-CB8E-4F05-BC9D-A67D55A4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20CC-37E5-40FE-AABF-82679E97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5889-803D-467F-92A3-837638EE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1EBE-9C6D-443D-A077-A862E35F0443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8C3A-9E95-4DA5-AF2F-24C16730D9E1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projctor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200362315734150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14400" y="533520"/>
            <a:ext cx="7467480" cy="19810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Unit  5   Advertis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2895480"/>
            <a:ext cx="4572000" cy="100836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003399"/>
                </a:solidFill>
                <a:latin typeface="Times New Roman"/>
              </a:rPr>
              <a:t>Lesson   1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78960" y="1219320"/>
            <a:ext cx="598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hat makes a good advertise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30320" y="1828800"/>
            <a:ext cx="324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make=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有条件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成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4240" y="2286000"/>
            <a:ext cx="8107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avid will make a good football play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ld tea makes a good drink in summ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3520" y="3581280"/>
            <a:ext cx="900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en translated, it meant“x puts living things i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ry hair.(=When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it wa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ranslat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9960" y="5173560"/>
            <a:ext cx="7630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hy don’t you make an answer when spoken 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 won’t go to the party unless invi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533520"/>
            <a:ext cx="914400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start with= begin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219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g  Today’s class started with a ques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981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attract / draw one’s 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312408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x puts life into dry hair---X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干发生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114800"/>
            <a:ext cx="8153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X puts living things into dry hair ---X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干发生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04920" y="0"/>
            <a:ext cx="8534160" cy="990720"/>
          </a:xfrm>
          <a:prstGeom prst="flowChartTerminator">
            <a:avLst/>
          </a:prstGeom>
          <a:solidFill>
            <a:srgbClr val="1be6e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PMingLiU"/>
                <a:ea typeface="PMingLiU"/>
              </a:rPr>
              <a:t>Practice 4  The Past Participle as Attribu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过去分词作定语）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5040" y="853920"/>
            <a:ext cx="6046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Times New Roman"/>
              </a:rPr>
              <a:t>Complete these sentences in your own wa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2880" y="1158840"/>
            <a:ext cx="75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Times New Roman"/>
              </a:rPr>
              <a:t>Example: We lived in </a:t>
            </a:r>
            <a:r>
              <a:rPr b="1" i="1" lang="en-US" sz="2600" spc="-1" strike="noStrike">
                <a:solidFill>
                  <a:srgbClr val="ff0066"/>
                </a:solidFill>
                <a:latin typeface="Times New Roman"/>
              </a:rPr>
              <a:t>the house built</a:t>
            </a:r>
            <a:r>
              <a:rPr b="1" lang="en-US" sz="2600" spc="-1" strike="noStrike">
                <a:solidFill>
                  <a:srgbClr val="ff0066"/>
                </a:solidFill>
                <a:latin typeface="Times New Roman"/>
              </a:rPr>
              <a:t> by my broth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7840" y="1595520"/>
            <a:ext cx="821196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1.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he telegram sent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by my sister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_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2.Her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companion, blamed for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___________, had not bee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driving carefull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3. You can take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he new freeway opened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_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4.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Nine of ten housewives interviewed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about the produ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_________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5.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hree guns, stolen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from _______________, were foun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in the hou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6.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ny medicine taken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without the advice of a doctor ca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_____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7. We spent two hours discussing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he ads prepared b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___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8. He gave her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 beautiful gift designed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by 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8880" y="1600200"/>
            <a:ext cx="141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s urg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360" y="1981080"/>
            <a:ext cx="1878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accid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8880" y="2743200"/>
            <a:ext cx="1678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ast mon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5480" y="3505320"/>
            <a:ext cx="2261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ere satisfie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55040" y="3930480"/>
            <a:ext cx="264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police st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5149800"/>
            <a:ext cx="223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be dangerou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92160" y="5943600"/>
            <a:ext cx="148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is fir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54880" y="6292800"/>
            <a:ext cx="1207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imsel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781680" y="5410080"/>
            <a:ext cx="2362320" cy="14479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8600" y="2057400"/>
            <a:ext cx="8915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streets            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s crowd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with shopp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supermarket                 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s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very wel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yp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top of the mountain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ere lin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with trees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ose bus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 factory visit      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s cover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with s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ll the problems  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as agre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n exciting programme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ere injur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Very few people   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as fix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s article           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re settled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80880"/>
            <a:ext cx="9144000" cy="1067040"/>
          </a:xfrm>
          <a:prstGeom prst="rect">
            <a:avLst/>
          </a:prstGeom>
          <a:solidFill>
            <a:srgbClr val="1b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Script MT Bold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PMingLiU"/>
                <a:ea typeface="PMingLiU"/>
              </a:rPr>
              <a:t>Practice  1   The Past Participle as Predic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Script MT Bold"/>
              </a:rPr>
              <a:t>（过去分词作表语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62320" y="2362320"/>
            <a:ext cx="2209680" cy="838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124080" y="2286000"/>
            <a:ext cx="13716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2520" y="3352680"/>
            <a:ext cx="533160" cy="762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4114800"/>
            <a:ext cx="1981080" cy="1143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4495680"/>
            <a:ext cx="1447920" cy="1295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819520" y="4952520"/>
            <a:ext cx="1600200" cy="381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209680" y="2819160"/>
            <a:ext cx="2286000" cy="297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840" y="1438200"/>
            <a:ext cx="52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ake the sentences from the 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962520" y="4495320"/>
            <a:ext cx="53316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loud"/>
          <p:cNvSpPr/>
          <p:nvPr/>
        </p:nvSpPr>
        <p:spPr>
          <a:xfrm>
            <a:off x="-228600" y="0"/>
            <a:ext cx="9601200" cy="1295280"/>
          </a:xfrm>
          <a:prstGeom prst="pie">
            <a:avLst/>
          </a:prstGeom>
          <a:solidFill>
            <a:srgbClr val="1be6eb"/>
          </a:solidFill>
          <a:ln w="936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MingLiU"/>
                <a:ea typeface="PMingLiU"/>
              </a:rPr>
              <a:t>Practice  2    The Past Participle as Object Complement   (</a:t>
            </a:r>
            <a:r>
              <a:rPr b="1" lang="zh-CN" sz="2800" spc="-1" strike="noStrike">
                <a:solidFill>
                  <a:srgbClr val="000000"/>
                </a:solidFill>
                <a:latin typeface="PMingLiU"/>
                <a:ea typeface="PMingLiU"/>
              </a:rPr>
              <a:t>过去分词作宾语补足语）</a:t>
            </a:r>
            <a:r>
              <a:rPr b="0" lang="zh-CN" sz="2800" spc="-1" strike="noStrike">
                <a:solidFill>
                  <a:srgbClr val="000000"/>
                </a:solidFill>
                <a:latin typeface="PMingLiU"/>
                <a:ea typeface="PMingLiU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-228600" y="137160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xample:</a:t>
            </a:r>
            <a:r>
              <a:rPr b="1" i="1" lang="en-US" sz="28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We tried the idea out.</a:t>
            </a:r>
            <a:r>
              <a:rPr b="1" i="1" lang="en-US" sz="2800" spc="-1" strike="noStrike">
                <a:solidFill>
                  <a:srgbClr val="ff66cc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167652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-147960" y="1778040"/>
            <a:ext cx="9643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have printed 6,000 advertis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We are going to change the text of the advertis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We shall fetch your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luggag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from the airp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They have reviewed the whole program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He is going to film a new advertis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9360" y="2158920"/>
            <a:ext cx="69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have ha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6,000 advertisement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rint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380880" y="3048120"/>
            <a:ext cx="948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re going to hav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the text of the advertisement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hang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9625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hall hav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your luggage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etch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from the airp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8560" y="4800600"/>
            <a:ext cx="751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y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have ha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the whole programm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eview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2720" y="6095880"/>
            <a:ext cx="75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s going to hav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a new advertisement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ilm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05520" y="13716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e had the idea tried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93560" y="628560"/>
            <a:ext cx="88027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 We must take some photographs of the microcompu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 Mrs Baker does her hair every Friday after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 The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libraria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s putting up new shel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1722600"/>
            <a:ext cx="960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e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ust have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ome photograph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of the microcomputer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taken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4237200"/>
            <a:ext cx="831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Mrs Baker 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has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her hair 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done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every Friday after work.</a:t>
            </a:r>
            <a:r>
              <a:rPr b="1" i="1" lang="zh-CN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60958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he librarian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s having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new shelve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ut up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 flipV="1">
            <a:off x="704880" y="0"/>
            <a:ext cx="6781680" cy="1295280"/>
          </a:xfrm>
          <a:prstGeom prst="ellipse">
            <a:avLst/>
          </a:prstGeom>
          <a:solidFill>
            <a:srgbClr val="1b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Practice  3  The Past Participle as Adverbial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过去分词作状语）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158840"/>
            <a:ext cx="9044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We were disturbed by the noise and had to finish th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eeting early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1360" y="2209680"/>
            <a:ext cx="762120" cy="1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30960" y="1955880"/>
            <a:ext cx="8279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Disturbe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by the noise, we had to finish the meeting earl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405720" y="2438280"/>
            <a:ext cx="994788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he was devoted to her mother and looked after her for man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yea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She became tense when he was questioned about the murd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. She was admired for her photography and was persuaded 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join the compan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-7560" y="3168720"/>
            <a:ext cx="921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Devote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to her mother, she had to look after her for many yea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1680" y="4191120"/>
            <a:ext cx="6956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uestione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about the murder, she became ten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5715000"/>
            <a:ext cx="9118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dmire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for her photography, she was persuaded to join th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ompan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2280" y="833400"/>
            <a:ext cx="8763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We were excited by the sales figures and decided to go out and celeb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I was shocked at the waste of money and decid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ve the compa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He was persuaded by his friends to give up smoking and threw his remaining cigarettes a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1873080"/>
            <a:ext cx="811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xcited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by the sales figures, we decided to go out and celebr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38098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hocke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y the waste of money, I decided to leave the compan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0520" y="5759280"/>
            <a:ext cx="843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ersuaded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by his friends to give up smoking, he threw his remaining cigarettes a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19320" y="838080"/>
            <a:ext cx="6172200" cy="1447920"/>
          </a:xfrm>
          <a:prstGeom prst="flowChartTerminator">
            <a:avLst/>
          </a:prstGeom>
          <a:solidFill>
            <a:srgbClr val="1be6e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Script MT Bold"/>
              </a:rPr>
              <a:t>Home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68480" y="2971800"/>
            <a:ext cx="651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.Finish the workbook exerci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.Revise the whole less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343400" y="4876920"/>
            <a:ext cx="36576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47920" y="2711520"/>
            <a:ext cx="67816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88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ff"/>
                </a:solidFill>
                <a:latin typeface="华文行楷"/>
                <a:ea typeface="华文行楷"/>
              </a:rPr>
              <a:t>Thank you very much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066680" y="1600200"/>
            <a:ext cx="971640" cy="8920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2133720" y="914400"/>
            <a:ext cx="971280" cy="8920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5181480" y="5943600"/>
            <a:ext cx="960480" cy="5605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6400800" y="5334120"/>
            <a:ext cx="960480" cy="5601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7848720" y="5867280"/>
            <a:ext cx="96048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952880" y="4724280"/>
            <a:ext cx="3810240" cy="1981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600200" y="304920"/>
            <a:ext cx="5257800" cy="1447560"/>
          </a:xfrm>
          <a:prstGeom prst="ellipse">
            <a:avLst/>
          </a:prstGeom>
          <a:solidFill>
            <a:srgbClr val="1b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General ide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286000"/>
            <a:ext cx="799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Paragraph1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4038480"/>
            <a:ext cx="7921440" cy="70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makes a good advertise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206369_20038273162826937" descr=""/>
          <p:cNvPicPr/>
          <p:nvPr/>
        </p:nvPicPr>
        <p:blipFill>
          <a:blip r:embed="rId3"/>
          <a:stretch/>
        </p:blipFill>
        <p:spPr>
          <a:xfrm>
            <a:off x="0" y="152280"/>
            <a:ext cx="960480" cy="960480"/>
          </a:xfrm>
          <a:prstGeom prst="rect">
            <a:avLst/>
          </a:prstGeom>
          <a:ln w="0">
            <a:noFill/>
          </a:ln>
        </p:spPr>
      </p:pic>
      <p:pic>
        <p:nvPicPr>
          <p:cNvPr id="98" name="20041285428431" descr=""/>
          <p:cNvPicPr/>
          <p:nvPr/>
        </p:nvPicPr>
        <p:blipFill>
          <a:blip r:embed="rId4"/>
          <a:stretch/>
        </p:blipFill>
        <p:spPr>
          <a:xfrm>
            <a:off x="7848720" y="228600"/>
            <a:ext cx="990360" cy="914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6019920" y="2590920"/>
            <a:ext cx="1145880" cy="12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?</a:t>
            </a:r>
            <a:endParaRPr b="1" lang="en-US" sz="96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943600" y="5384880"/>
            <a:ext cx="3200400" cy="1473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133720" y="60948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82880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  ) 1.People read advertisements for in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  ) 2.Advertisements often start with a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 order to get the correct ans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 )  3. Humour is very important in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dvertis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 )  4. It is possible for the reader 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iewer</a:t>
            </a:r>
            <a:r>
              <a:rPr b="1" i="1" lang="en-US" sz="32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member the advertisement but not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ame of  the produ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6720" y="17524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6720" y="236232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335268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434340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838080" y="456840"/>
            <a:ext cx="6782040" cy="1295280"/>
          </a:xfrm>
          <a:prstGeom prst="ellipse">
            <a:avLst/>
          </a:prstGeom>
          <a:solidFill>
            <a:srgbClr val="1b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True  or  Fal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206369_20038273162826937" descr=""/>
          <p:cNvPicPr/>
          <p:nvPr/>
        </p:nvPicPr>
        <p:blipFill>
          <a:blip r:embed="rId2"/>
          <a:stretch/>
        </p:blipFill>
        <p:spPr>
          <a:xfrm>
            <a:off x="0" y="380880"/>
            <a:ext cx="960480" cy="960480"/>
          </a:xfrm>
          <a:prstGeom prst="rect">
            <a:avLst/>
          </a:prstGeom>
          <a:ln w="0">
            <a:noFill/>
          </a:ln>
        </p:spPr>
      </p:pic>
      <p:pic>
        <p:nvPicPr>
          <p:cNvPr id="109" name="20041285428431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9903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71600" y="15238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533520"/>
            <a:ext cx="5257800" cy="1447560"/>
          </a:xfrm>
          <a:prstGeom prst="ellipse">
            <a:avLst/>
          </a:prstGeom>
          <a:solidFill>
            <a:srgbClr val="1b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Times New Roman"/>
              </a:rPr>
              <a:t>General ide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2362320"/>
            <a:ext cx="89917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Paragraph  2&amp;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38280" y="4952880"/>
            <a:ext cx="4876920" cy="1905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447920" y="3505320"/>
            <a:ext cx="76960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he danger in adverti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----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bad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translation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5029200"/>
            <a:ext cx="3352680" cy="1828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V="1">
            <a:off x="1066680" y="456840"/>
            <a:ext cx="6782040" cy="1295280"/>
          </a:xfrm>
          <a:prstGeom prst="ellipse">
            <a:avLst/>
          </a:prstGeom>
          <a:solidFill>
            <a:srgbClr val="1b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True  or  Fal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90512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 )1.Checking the translation is very impor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hen you are selling your product in a fore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ar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 )2.The two sentences “X puts life into you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dry hair.” and “X puts living things into d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hair.” have the same mea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)3. A British car company must change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ame of the car in German marke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6360" y="19051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6360" y="48006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6720" y="33526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38080" y="-53352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763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tep 2. Reading Compreh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2120"/>
            <a:ext cx="9296280" cy="66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ccording to the text, most people read advertisements for: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knowledge 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fun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killing time          D. both information and fun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2. Why do most advertisements begin with a question?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A. Because nobody knows the answer.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B. Because a question can make an advertisement funny.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C. Because readers will be interested in finding out the answer.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D. Because a question will win more customers for a company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2520" y="1752480"/>
            <a:ext cx="53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4267080"/>
            <a:ext cx="38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380880"/>
            <a:ext cx="9144000" cy="59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What is very important in an advertisement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A question.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Information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Humor. 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A stor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What is one of the dangers of a series of advertisements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A. Readers will be tired of reading too many texts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B. Readers will lose patience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C. Readers will forget the name of the product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D. Readers will forget the advertisement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3800" y="1371600"/>
            <a:ext cx="80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7320" y="4754520"/>
            <a:ext cx="98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4920" y="228600"/>
            <a:ext cx="8839080" cy="81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5. What may turn a good advertisement into a bad one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A question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 A story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 Bad translation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 The expensive price of the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6 .What would happen if the advertisement has no effect on sales after it is tried o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Researchers interview possible customer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The reasons for the failure must be found out.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The advertisement is designed again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All of the above would hap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6905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019920"/>
            <a:ext cx="533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315200" y="5257800"/>
            <a:ext cx="1828800" cy="1600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2133720" y="228600"/>
            <a:ext cx="4800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Questions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" name=""/>
          <p:cNvSpPr/>
          <p:nvPr/>
        </p:nvSpPr>
        <p:spPr>
          <a:xfrm>
            <a:off x="299160" y="1219320"/>
            <a:ext cx="706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y do people read advertisem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9720" y="1752480"/>
            <a:ext cx="827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People read advertisements partly for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and partly because they are interest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3581280"/>
            <a:ext cx="817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The company wanted to say “X puts life into d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hair”.But when translated it meant “X puts liv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things into dry hair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54864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The British name of the car meant “animal was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in Germa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26668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What mistakes was made in the translation   of the ad for hair crea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4876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What mistake was made in the car a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8T13:32:59Z</dcterms:created>
  <dc:creator>史文林</dc:creator>
  <dc:description/>
  <dc:language>en-US</dc:language>
  <cp:lastModifiedBy>w</cp:lastModifiedBy>
  <dcterms:modified xsi:type="dcterms:W3CDTF">2004-08-23T15:43:55Z</dcterms:modified>
  <cp:revision>84</cp:revision>
  <dc:subject/>
  <dc:title>PowerPoint 演示文稿</dc:title>
</cp:coreProperties>
</file>